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0B0-EAA2-4EB3-B63B-06BB9A88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612-2FEE-40D5-A6F4-213AE8D0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572-CA39-4AA8-A166-14FF00AB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6F9-B4E0-4B20-8895-6E40E5F9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DD46-FF27-455B-91D8-FA152628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088D-EA59-4F4F-8358-A74A732F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0B25-4A4F-4722-A5FD-1667AD90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1355-EC81-478F-970F-C972823E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C806-142A-4D5A-A165-78EEF5DB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6FBE-59B2-4F04-BB71-14B9FF8F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8FE0-7E56-49FB-84B6-3788E6C5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D6F-E04E-4016-ADFC-C29E1901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69F3-4A5C-456B-B970-5077E55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BF6-0625-4437-BD02-BFC1CAD4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699E-7C95-4A1E-9BCD-33560106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1318-0917-4D84-A707-F36B8A1E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94F9-EA52-497E-A562-CAC527A0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4D9-1BB7-4C52-A4DB-4554D85C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150-896F-4AA1-9C6A-3479DF9D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CDA-9561-4C6A-A144-C0C033B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E35-6974-435E-9DA7-82ED2E04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5BA-D1D9-45D7-8A54-1560966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90F-49F0-4D0B-A251-00FB9608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F31-65D3-4E38-9D48-846E37C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E034-BB83-4238-BA42-BD2DBFF43E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99A5-C748-4B27-8B33-686A3F3DF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468360" y="1268280"/>
            <a:ext cx="83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... до и после 14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869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УДОВОЕ  ПРАВО  ПОДРОСТ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Organization Chart 7"/>
          <p:cNvGrpSpPr/>
          <p:nvPr/>
        </p:nvGrpSpPr>
        <p:grpSpPr>
          <a:xfrm>
            <a:off x="2684520" y="713520"/>
            <a:ext cx="3917880" cy="1635480"/>
            <a:chOff x="2684520" y="713520"/>
            <a:chExt cx="3917880" cy="163548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48640" y="813240"/>
              <a:ext cx="227520" cy="10357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4012200" y="811800"/>
              <a:ext cx="227520" cy="103860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1030"/>
            <p:cNvSpPr/>
            <p:nvPr/>
          </p:nvSpPr>
          <p:spPr>
            <a:xfrm>
              <a:off x="3811680" y="713520"/>
              <a:ext cx="1665360" cy="50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одростк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_s1031"/>
            <p:cNvSpPr/>
            <p:nvPr/>
          </p:nvSpPr>
          <p:spPr>
            <a:xfrm>
              <a:off x="268452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Акт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7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_s1032"/>
            <p:cNvSpPr/>
            <p:nvPr/>
          </p:nvSpPr>
          <p:spPr>
            <a:xfrm>
              <a:off x="475776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асс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63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9" name="Text Box 15"/>
          <p:cNvSpPr/>
          <p:nvPr/>
        </p:nvSpPr>
        <p:spPr>
          <a:xfrm>
            <a:off x="395280" y="3284640"/>
            <a:ext cx="3529080" cy="3448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ктивные нацелены на поиск работы. Их отличает серьезное, ответственное отношение к своему труду. Такие подростки реально оценивают свои возможности, знают на какую работу они могут рассчиты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558000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5148360" y="2924280"/>
            <a:ext cx="3744720" cy="4057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ассивные подростки не стремятся найти работу, даже если они очень нуждаются в деньгах. Для них лучше « на улице побегать, к подружкам сходить» Яркий пример отношения к труду- школьный лагерь. Свою работу учащиеся воспринимают , как отработку. По существу она им не нужн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Докумен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68360" y="1700280"/>
            <a:ext cx="8207280" cy="61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Заявл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огласие родителей на осуществление трудовой деятельности ребён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видетельство о рождении или паспо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правка о состоянии здоровья ( за счет работодателя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Трудовой до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На постоянную работу ( трудовая книж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труд2"/>
          <p:cNvPicPr/>
          <p:nvPr/>
        </p:nvPicPr>
        <p:blipFill>
          <a:blip r:embed="rId1"/>
          <a:stretch/>
        </p:blipFill>
        <p:spPr>
          <a:xfrm>
            <a:off x="0" y="0"/>
            <a:ext cx="3781440" cy="28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труд5"/>
          <p:cNvPicPr/>
          <p:nvPr/>
        </p:nvPicPr>
        <p:blipFill>
          <a:blip r:embed="rId2"/>
          <a:stretch/>
        </p:blipFill>
        <p:spPr>
          <a:xfrm>
            <a:off x="0" y="4265640"/>
            <a:ext cx="3240000" cy="2592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067280" y="549360"/>
            <a:ext cx="507672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ием на работу подростков 14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не должна быть противопоказана здоровью несовершеннолетнег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должна выполняться в свободное от учё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Согласие одного из родител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запрещено применять труд лиц моложе 18 лет на тяжёлых работах, на работах с вредными или опасными условиями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Привлекать к работе в ночное время и сверхурочной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е, в выходные и нерабочие д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8:41:46Z</dcterms:created>
  <dc:creator>Елена</dc:creator>
  <dc:description/>
  <dc:language>en-US</dc:language>
  <cp:lastModifiedBy>Тамара Андреевна</cp:lastModifiedBy>
  <dcterms:modified xsi:type="dcterms:W3CDTF">2008-10-15T05:08:16Z</dcterms:modified>
  <cp:revision>9</cp:revision>
  <dc:subject/>
  <dc:title>Слайд 1</dc:title>
</cp:coreProperties>
</file>