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975-B415-46E7-AC6D-2873477C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585-5AD2-44DA-9016-747FDA0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FC2-84F3-4FAC-860C-80F299F1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D37-058C-4311-97F2-FF2D3CF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8F5B-98B1-42C9-8A5C-B1C96BB6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465F1-9458-4D97-8178-3DCDCF7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1555-7F50-4404-8FF9-105FDF31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55A6E-CD82-48AF-AD88-7BFA1782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9017F-6D45-4038-85FA-78C4A76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1FF9-C47D-47EA-875B-AA5C63F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42E4-2A94-4A18-B88F-4FD46786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C57-218A-4095-961F-E471D8FC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C010-A881-41E2-8FDB-F11F54F9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290C-3CBB-46C9-B33E-1663173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1BB3-DDD9-40AC-A9B9-29CCE71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D73CC-72BF-4CF1-BF42-27575C88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BF8B-42F3-44A0-8602-61A8737C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066-0A36-4D04-82DE-85359B3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CEF-89BB-4CD2-AC23-5CFB870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437-7784-401B-B83A-BACD23A5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658-CCC2-46EF-9727-7C2FB1CA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1A7-E913-410A-BC25-F94A7DA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F3D-93B0-4D45-8381-21585D7F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28B-50B4-4FA6-945C-4C71803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D65-EF08-4231-89E9-13C32ED731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41C-F637-48F4-877D-4E76D26223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Управление персона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к составная часть менеджмен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етоды анали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и анализ основных показателей, характеризующих состояние и степень использования трудовых 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влияния отдельных факторов на изменение результативного показателя способом детерминированного факторного анали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ение графиков, характеризующих стиль руководства, лидера организации, культуру управления, критерии успеха, характеристики организации с помощью инструмен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Направление совершенствования кадрового менеджмента на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075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стимул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9368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управления персон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924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квалификации 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Система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ая связь с достигнутыми успех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аграждение за перевыполнение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ие «потолка» п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ветствие з/платы реальному вкладу в успех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ение базовых окладов для руко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сткая схема начисления премий. Три категории оценки результатов (хорошо, удовлетворительно, плохо), рейтинг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мию вручает непосредственный начальник. Обязательно проведение бес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я премиальных выплат не завизящих от результатов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Неэкономические методы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мен опытом (переброска из одной группы в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профессиональных конк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альное стимулирование (похвала, грамота, доска почета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Изменение в культур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014480"/>
          <a:ext cx="7561440" cy="55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14480"/>
                    <a:ext cx="756144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5:15:38Z</dcterms:created>
  <dc:creator/>
  <dc:description/>
  <dc:language>en-US</dc:language>
  <cp:lastModifiedBy>Andrey L.</cp:lastModifiedBy>
  <dcterms:modified xsi:type="dcterms:W3CDTF">2004-09-28T07:44:24Z</dcterms:modified>
  <cp:revision>7</cp:revision>
  <dc:subject/>
  <dc:title>Управление персоналом</dc:title>
</cp:coreProperties>
</file>